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0B0-D90D-4F03-BDF7-CB582031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525C-FC52-409C-9346-8329BDA0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21DB-9E1E-431F-9F22-5E3FE231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080-ADD6-40A8-9B32-E5291609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003-DF89-4412-A66D-F34D4362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AD3-E770-49BF-AA4F-8596B972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365-243B-42BF-9541-2187EE29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2EF9-8EBF-429B-9102-89531381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442-E1B3-4EB2-871B-F1F1B8DE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A5B-BA3C-4820-8DB3-5A67245E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1AF-3950-4C0E-9F91-A5B9C8FB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34E-F90D-4658-BC30-BA93ADC9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1BFC-C88B-4996-AC29-D691A7837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 Seed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s come from seeds. Each seed contains a tiny plant waiting for the right conditions to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rmina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which means, begin to g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32004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105520" y="36576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2680" y="2666880"/>
            <a:ext cx="378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side of a kidney b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3429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Do Kidney Bean Seeds Need to Grow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ds wait to germinate until three needs are met: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ergy from the Sun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ir (carbon-di-oxide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629400" y="1676520"/>
            <a:ext cx="2200320" cy="23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62520" y="32767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33520" y="4800600"/>
            <a:ext cx="2819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152280"/>
            <a:ext cx="7772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beginning, the kidney bean seedling depends on the food  stored in the s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2103480" cy="3132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3429000" y="2743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5040" y="25146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5909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0200" y="2362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11444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18640" y="33177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6094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ce the seed grows its own leaves, the seedling begins to make food through a process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otosynthesi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3047760" cy="3810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33720" y="49528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46893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87692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66200" y="33177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20040" y="20574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286000"/>
            <a:ext cx="3200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791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oots push down and supply water to the plant. The stem and the new leaves push up toward the 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s make their own food by using light energy from the sun, water from the soil and carbon-di-oxide from the air. This is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otosynth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371600" y="1676520"/>
            <a:ext cx="5867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581280" cy="3143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09480" y="762120"/>
            <a:ext cx="374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the Kidney bean plant is big enough it will produce flower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22840" y="73188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181480" y="23623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18280" y="808200"/>
            <a:ext cx="35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when the bee brings pollen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3048120"/>
            <a:ext cx="114300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7621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it will pollinate the flowers and turn them into pods that contain seed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733560" cy="3429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2971800"/>
            <a:ext cx="1905120" cy="228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304812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105520" y="1066680"/>
            <a:ext cx="359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and we will have more kidney beans to plant or enjoy as a meal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ees and other green plants are like food factories.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use photosynthesis to make the food they need to grow and reproduce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out them, human beings and animals would be without a food 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2263680" cy="2903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505320" y="1523880"/>
            <a:ext cx="2286000" cy="3295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324480" y="838080"/>
            <a:ext cx="2068560" cy="317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52280" y="4495680"/>
            <a:ext cx="3154320" cy="2092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6248520" y="4648320"/>
            <a:ext cx="2438280" cy="1952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84640" y="19836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22680" y="73188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qu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33120" y="1224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4080" y="39625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oc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09320" y="41148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mp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5:22:52Z</dcterms:created>
  <dc:creator>Home</dc:creator>
  <dc:description/>
  <dc:language>en-US</dc:language>
  <cp:lastModifiedBy>ACox</cp:lastModifiedBy>
  <dcterms:modified xsi:type="dcterms:W3CDTF">2011-10-18T12:14:30Z</dcterms:modified>
  <cp:revision>22</cp:revision>
  <dc:subject/>
  <dc:title>PowerPoint Presentation</dc:title>
</cp:coreProperties>
</file>